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42C0-DEBE-4C39-A1EC-90120FE266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E56D-EE0B-4C8A-BC22-89A35E8E74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4D5B-1D9A-4AD1-89C3-58ED6A2951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609E-11AD-4F82-B18A-158CCF486E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5427-3805-4CB0-A810-556D998A65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6626-0267-45E7-8FFD-5E00084ED1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3A55-3DFD-4981-82E5-53663BECB7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4ED36-A0DD-4CE9-9B6A-CDAD8A2A7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9B980-4979-4D8E-9CCE-2EFABC53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EF5C4-CB83-4CF4-B6BE-DBE3D59AE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8E701-809A-438D-A889-6ADF899B7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2257-E3E6-4231-BA7D-AE5EC33E3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05092-B533-4C8B-A432-F217071B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6F81-CAF3-4603-9BAE-02E780B94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BA644-FBDE-4DCA-9CC6-6A83CA1B6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4A872-12A8-4376-B24B-BBE39DB63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A53A-71F3-4FDE-B84E-5D9C521DA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9A09F-41E7-425D-B641-17DDF2D5F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AC65-A967-4230-99CE-BDAE70EAA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4564-37DA-4662-8701-8EFEA8330B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533520" y="144756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a:t>
            </a: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Calibri"/>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a:t>
            </a:r>
            <a:endParaRPr b="0" lang="en-US" sz="3200" spc="-1" strike="noStrike">
              <a:solidFill>
                <a:srgbClr val="000000"/>
              </a:solidFill>
              <a:latin typeface="Calibri"/>
            </a:endParaRPr>
          </a:p>
        </p:txBody>
      </p:sp>
      <p:graphicFrame>
        <p:nvGraphicFramePr>
          <p:cNvPr id="56" name=""/>
          <p:cNvGraphicFramePr/>
          <p:nvPr/>
        </p:nvGraphicFramePr>
        <p:xfrm>
          <a:off x="533520" y="2057400"/>
          <a:ext cx="8229600" cy="1676520"/>
        </p:xfrm>
        <a:graphic>
          <a:graphicData uri="http://schemas.openxmlformats.org/drawingml/2006/table">
            <a:tbl>
              <a:tblPr/>
              <a:tblGrid>
                <a:gridCol w="1371600"/>
                <a:gridCol w="1371600"/>
                <a:gridCol w="1371600"/>
                <a:gridCol w="1371600"/>
                <a:gridCol w="1371600"/>
                <a:gridCol w="1371600"/>
              </a:tblGrid>
              <a:tr h="83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08-12-10T01:51:56Z</dcterms:modified>
  <cp:revision>4</cp:revision>
  <dc:subject/>
  <dc:title>Title:</dc:title>
</cp:coreProperties>
</file>